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gif" ContentType="image/gif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AB8-A0A1-4BB7-B86B-428F2457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56C-CB8E-4583-9320-918FD8FD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90AA0-DB78-46FB-AF27-18552E5C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100DC-29CB-48BA-B20F-FDC60F54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E41DE-5E22-4151-B997-C56F1B8D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28718-1F31-4DF5-BCF7-7A5219D5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3C3A9-7B67-4B45-9B28-B60EB815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ECEB5-0424-4278-909E-18D1A72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31B68-6E23-4E33-8B2B-B2B7101A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51141-DB8B-43D5-B7A5-3152F47F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70204-E017-4C60-A933-E871BA25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321E6-E3CB-4BE8-A6D5-147704E3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4C6-0CE3-4D1D-A568-CDD5FC29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D74D9-8FC1-41AE-8BBD-2456985B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50C12-0ABC-4ECE-BF94-2D9038A9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F5B68-0283-414F-92BD-4856ACBF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DAFF6-CCB6-43C3-A452-87922232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02DB7-13A5-4A91-B089-26607B5C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7DB6C-0F7A-4A1B-8EB9-096F912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A3CF0-F229-4BFA-B148-F8E8F77B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BACD8-FDBF-4E20-8C44-B493CA5D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45C96-FCF8-43AC-B3CE-098EE289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A05A8-8915-4F0B-AB56-D2AE0DDE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1AC-A0B6-45CC-9155-6624D0ED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D0261-61BC-4587-94FD-4B10FE59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49EE4-139D-495B-B128-769ED3A4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E62D2-C7F2-4207-A207-5C68C622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C8BF0-667B-49A4-9510-DA12CBEC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8227A-5EFA-4C96-870E-A13070B2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4595D-B0C5-46DB-A42F-ECD67D92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D3192-C42E-4BC6-9C45-D617613E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89B00-BD7C-499C-9A5C-C0573AE5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DF6C4-F0F4-49DA-B25F-EA40904C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1BD7B-7EDF-4925-AE8C-D346F7E2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1B45-F144-49D5-BFD0-0B509B8B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F6541-BD10-488B-8618-78B79F8F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7FE67-8ACE-4E79-9AE4-2B1D4CB8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5E078-6A64-4BF1-8650-E540BDD4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5A0D6-B3E4-4F51-BF99-63886302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322C1-DDEE-4FFC-AAF1-300E8FDD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3F9F8-2E2E-47EC-853A-2BF72F6D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71295-2889-4DA9-BAAC-D5907BF7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72889-5DD7-4FA2-A146-85F5BBCE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68FA4-6E38-4E05-BF56-1AD1C50B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01D03-2880-430F-A18C-93B1DB0F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EC64-C6B6-4347-8CE6-5A9946B9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73D42-10AE-4AAC-B7CA-E22A3DF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CDD05-41CF-4B28-8374-76B186DD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7CD57-A0BD-495D-BC6D-16205DA5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E9E46-D949-45FA-BFC9-403A9580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0B31D-A2C0-45E3-8072-F9490221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D2EC-ED0C-4482-9A82-41075F5B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3C23-1DC2-471D-A28D-425A2847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3341-4CAC-42C0-8D10-C43BAC76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87F3-D024-4602-A667-55B0B936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325F-F1EF-4B8A-AC91-6ED3272E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373-1441-40EB-B5C4-C1A00984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BFA3-8AE7-4019-A0C2-916F199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42E7-349C-4580-AF5A-DE19AED5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AA54-162C-4F30-92C9-1670EA59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2627-4953-4571-AEA1-4335ED37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1ED1-1C53-4BC3-B8B0-DF92F6B6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D962-5112-44DD-B552-355CF203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EA70E-3CA0-433B-B897-321454D2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4940-8631-4C48-B25F-F6F8344D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26A5-4624-4A9D-9740-3CD4F8EA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C030D-20C5-49C9-A552-F02C88B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65C-E342-42DB-BCE1-2D8013D3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EA96-C12A-4D4C-85B6-1C24F30E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9653E-9B46-4420-9DE6-F63089A4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A347-9F36-42C7-B654-D8F47389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A654-953B-4568-B59B-6E0C125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8D58-D5E4-4A0C-9E90-48F99A46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7C51-D1C6-4F16-89E9-B262EFF2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422E-9C67-4049-ADEC-DCA828E7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3861A-E9AA-4708-BA02-522003AB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0A8ED-B31D-46C6-8C0A-8556A26B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077F9-C292-410F-A3A8-0B50D9C6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A03-80F4-4DF3-8956-742B84B0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9F03A-2D55-42E0-BC40-832DF41A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B90E-1831-4104-97E7-40D0D727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C1C4-2F38-4CC4-BCC7-DBBBBDB5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D801-40DD-4C4A-85A2-0CA0BBB5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4176-613E-480E-8E12-3C76465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E1228-363C-4393-B824-7881D633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FE02-01CD-4439-89DC-2D2DBB5C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5CFF-82FC-4906-BF09-CCFBC3AB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600E-FB82-4F45-A70A-4C50329C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27F87-6BB7-4E83-8714-F63F960E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0C7-C348-4F42-9BEF-95CBCB78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11BB-C81D-4D6E-A6A7-A71CE2DB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670C9-3731-4518-AB1A-7AF0EB8B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F8AE-7C1E-4ABB-886D-BE9D291D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63DE-D6B7-4909-BEA1-E4F2AB05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E838E-CD32-47CC-BD96-D3AC7FE1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92941-D3B7-4105-8546-A2EF026C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CDB0-FE09-47D3-9C70-106FBE97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22FBE-8D4A-4D24-8E6C-E2138D58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7AD19-2743-4A77-AF74-24831E15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6F366-42EF-4DC6-99C3-7FC47142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A17-0DB9-4051-BB44-9ED04EBD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2F18-8E28-405A-A237-E088CB4B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CAFFA-46BB-4A3A-9B13-7310BAF9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B4028-6087-4463-BEB2-AB31B07E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4B9C7-4762-4629-A283-75FA1915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A1546-1458-4E01-A2D7-591B5781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EA285-F859-4324-9473-178390DE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BDB9C-F45B-4055-B387-AB580082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69E6F-DE7B-41DA-A955-56E9A84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9F4C-80DE-46D3-96CA-21C23F97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6061C-30E7-4F61-A9C9-FA3A6191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543-3F93-4ECB-B914-546E5B45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D7DB-22A2-4BE9-9FDF-1605D84F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609F-BE25-448C-842A-E93DA9A3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B7A0-3A67-4906-ADB7-27601605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25720-0EE6-4359-8EAA-0B72FF96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0325D-9FA2-4A95-8195-97800B7C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37D67-DA53-456D-B519-1E31545D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EB4D-ED0A-4FD8-8468-7FA93E87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E82CB-0E8A-4058-8580-CF60AA26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A40FD-EF11-421E-BE16-9046A03A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CB455-63E7-4DEB-824D-176FC999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5DC-5502-4F87-B837-ADAF4BB2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E6072-70E5-4202-9A2C-87467290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C12B-EAD7-4D80-9428-9A68CC40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6809E-8B7F-4D10-91D2-1D7315B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8ED5C-E083-44D2-A68F-A7DA53CA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DDB1F-2E0B-4661-A48E-020FAE99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449ED-B34E-4EAB-BD2A-0546A83D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37EB-9CC7-4293-AF67-8430D397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F22B4-A6BC-4242-9A46-D1B448E2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72ADA-7AE2-4971-B12B-4248BB56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7BC88-35C2-4D9A-975C-023E7037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E7D-E23D-4F50-B74D-11B3638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007C-3629-405F-BDD6-8D9B43FF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9CD02-DD5A-4197-8B35-E4E2835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38F42-3735-46C4-AB28-1160F53F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5D806-E998-4F25-B9DD-FFCCE0BD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B75C6-E7C6-4B4B-B5CE-74016535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B787C-9751-4E45-83DE-6122C13D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22456-85BD-44CE-BFBD-27E236A4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B8851-1B82-4F6E-9C2F-9FAA7A76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2DB02-8052-4333-B95B-37B19904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47157-D68A-4B2D-8788-63F6E7D5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29A-1D42-4616-BD96-6CC4405671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F498-64A8-450D-8283-418257938B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9A29-7288-4AD9-8EA6-9DF3C59D40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1009-8BA4-46E1-AF56-A218A6CA6D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7676-9820-43FC-AF0E-02F39F03B2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E06E-C2C1-49BD-8F46-58A69AD347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0070-2D20-4EB7-96E5-5113623352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6925-6015-4945-85F3-6825B9AD1A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6684-1EFF-4B39-90A5-7A44478195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4B26-3391-4FEB-AB07-FB5B8C6EB7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A21B-435E-438B-8F92-91A885B536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BC89-1905-4CFB-A7C8-3D51E0ACF6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redbridgerenet.co.uk/ictinset/march03/passover/passoverstory.html" TargetMode="External"/><Relationship Id="rId6" Type="http://schemas.openxmlformats.org/officeDocument/2006/relationships/image" Target="../media/image10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hyperlink" Target="http://www.youtube.com/watch?v=3oX-Kcx2BAc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chabad.org/kids/article_cdo/aid/361604/jewish/Ten-Plagues.htm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sporcle.com/games/Doubledome/plagues_egypt" TargetMode="External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hyperlink" Target="http://www.behrmanhouse.com/family_backup/mahnishtanah/index.swf" TargetMode="External"/><Relationship Id="rId4" Type="http://schemas.openxmlformats.org/officeDocument/2006/relationships/image" Target="../media/image10.gif"/><Relationship Id="rId5" Type="http://schemas.openxmlformats.org/officeDocument/2006/relationships/image" Target="../media/image15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hyperlink" Target="http://www.akidsheart.com/holidays/days/seder.htm" TargetMode="External"/><Relationship Id="rId5" Type="http://schemas.openxmlformats.org/officeDocument/2006/relationships/image" Target="../media/image11.png"/><Relationship Id="rId6" Type="http://schemas.openxmlformats.org/officeDocument/2006/relationships/hyperlink" Target="http://babaganewz.com/games/do-you-know-your-seder-plate" TargetMode="External"/><Relationship Id="rId7" Type="http://schemas.openxmlformats.org/officeDocument/2006/relationships/image" Target="../media/image12.png"/><Relationship Id="rId8" Type="http://schemas.openxmlformats.org/officeDocument/2006/relationships/hyperlink" Target="http://www.elijahrocks.net/Passover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babaganewz.com/games/jewpardy-pesach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kosher4passover.com/kids.htm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torahtots.com/holidays/pesach/wordgame/pesachwordgame.htm" TargetMode="External"/><Relationship Id="rId7" Type="http://schemas.openxmlformats.org/officeDocument/2006/relationships/image" Target="../media/image13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https://encrypted-tbn3.gstatic.com/images?q=tbn:ANd9GcRi1MdcweYWzwP8oA-zZPnqMuciZgTr3z1tU2I3kMvRtMs4i-KjXw"/>
          <p:cNvPicPr/>
          <p:nvPr/>
        </p:nvPicPr>
        <p:blipFill>
          <a:blip r:embed="rId1"/>
          <a:stretch/>
        </p:blipFill>
        <p:spPr>
          <a:xfrm>
            <a:off x="1846440" y="2133720"/>
            <a:ext cx="5638680" cy="383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49" name="Picture 3" descr="C:\Users\jam326 Desk Top\AppData\Local\Microsoft\Windows\Temporary Internet Files\Content.IE5\K0LVA38I\MC90043491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85120" y="5715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0" name="Rectangle 1" descr=""/>
          <p:cNvPicPr/>
          <p:nvPr/>
        </p:nvPicPr>
        <p:blipFill>
          <a:blip r:embed="rId4"/>
          <a:stretch/>
        </p:blipFill>
        <p:spPr>
          <a:xfrm>
            <a:off x="414360" y="23760"/>
            <a:ext cx="831528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C:\Users\jam326 Desk Top\AppData\Local\Microsoft\Windows\Temporary Internet Files\Content.IE5\K0LVA38I\MC90043491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336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https://encrypted-tbn0.gstatic.com/images?q=tbn:ANd9GcSwY-NGFGkjHUqQQWDBOEinGCOQWk5PrjIntDBwMkhiDbamfN_o"/>
          <p:cNvPicPr/>
          <p:nvPr/>
        </p:nvPicPr>
        <p:blipFill>
          <a:blip r:embed="rId3"/>
          <a:stretch/>
        </p:blipFill>
        <p:spPr>
          <a:xfrm>
            <a:off x="204840" y="676440"/>
            <a:ext cx="4138560" cy="5468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3" name="chsm=de8614d569a0989d21e7dadf1ade58cf&amp;sc=7792509" descr=""/>
          <p:cNvPicPr/>
          <p:nvPr/>
        </p:nvPicPr>
        <p:blipFill>
          <a:blip r:embed="rId4"/>
          <a:stretch/>
        </p:blipFill>
        <p:spPr>
          <a:xfrm>
            <a:off x="5410080" y="714240"/>
            <a:ext cx="3048120" cy="43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C:\Users\jam326 Desk Top\AppData\Local\Microsoft\Windows\Temporary Internet Files\Content.IE5\K0LVA38I\MC90043491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336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https://encrypted-tbn3.gstatic.com/images?q=tbn:ANd9GcRtC8jBRlwszGtk4yHiDNU9LiKoG_qbfHekyFbs7hevqnY4lU880A"/>
          <p:cNvPicPr/>
          <p:nvPr/>
        </p:nvPicPr>
        <p:blipFill>
          <a:blip r:embed="rId3"/>
          <a:stretch/>
        </p:blipFill>
        <p:spPr>
          <a:xfrm rot="19737000">
            <a:off x="585360" y="1255320"/>
            <a:ext cx="4496040" cy="2927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6" name="Picture 4" descr="https://encrypted-tbn3.gstatic.com/images?q=tbn:ANd9GcS-OkfucdPk3oq8sBa3EkYTi7kUCms1hxn01ktuxOvpjP9nzO1F"/>
          <p:cNvPicPr/>
          <p:nvPr/>
        </p:nvPicPr>
        <p:blipFill>
          <a:blip r:embed="rId4"/>
          <a:stretch/>
        </p:blipFill>
        <p:spPr>
          <a:xfrm>
            <a:off x="3726000" y="3865680"/>
            <a:ext cx="1800000" cy="2533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7" name="Picture 5" descr="C:\Users\jam326 Desk Top\AppData\Local\Microsoft\Windows\Temporary Internet Files\Content.IE5\ED6NEGBW\MM900395726[1]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37160" y="4267080"/>
            <a:ext cx="1679760" cy="1143000"/>
          </a:xfrm>
          <a:prstGeom prst="rect">
            <a:avLst/>
          </a:prstGeom>
          <a:ln w="0">
            <a:noFill/>
          </a:ln>
        </p:spPr>
      </p:pic>
      <p:pic>
        <p:nvPicPr>
          <p:cNvPr id="558" name="chsm=6d3f2562cba91de01389950a923473f0&amp;sc=7792566" descr=""/>
          <p:cNvPicPr/>
          <p:nvPr/>
        </p:nvPicPr>
        <p:blipFill>
          <a:blip r:embed="rId7"/>
          <a:stretch/>
        </p:blipFill>
        <p:spPr>
          <a:xfrm>
            <a:off x="5927760" y="387360"/>
            <a:ext cx="26985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C:\Users\jam326 Desk Top\AppData\Local\Microsoft\Windows\Temporary Internet Files\Content.IE5\K0LVA38I\MC90043491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336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C:\Users\jam326 Desk Top\AppData\Local\Microsoft\Windows\Temporary Internet Files\Content.IE5\ELTVDSBY\MC900437050[1]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029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C:\Users\jam326 Desk Top\AppData\Local\Microsoft\Windows\Temporary Internet Files\Content.IE5\WZ1N6GU5\MC900437051[1]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5029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C:\Users\jam326 Desk Top\AppData\Local\Microsoft\Windows\Temporary Internet Files\Content.IE5\K0LVA38I\MC900437052[1]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81560" y="5029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http://www.headofthejewishclass.com/productsbig/10plagues_picset2.jpg"/>
          <p:cNvPicPr/>
          <p:nvPr/>
        </p:nvPicPr>
        <p:blipFill>
          <a:blip r:embed="rId9"/>
          <a:stretch/>
        </p:blipFill>
        <p:spPr>
          <a:xfrm rot="20349000">
            <a:off x="407520" y="1223640"/>
            <a:ext cx="4992840" cy="3209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64" name="chsm=82d7fabc9c59b50350d2e3bee924d926&amp;sc=7792597" descr=""/>
          <p:cNvPicPr/>
          <p:nvPr/>
        </p:nvPicPr>
        <p:blipFill>
          <a:blip r:embed="rId10"/>
          <a:stretch/>
        </p:blipFill>
        <p:spPr>
          <a:xfrm>
            <a:off x="5562720" y="907920"/>
            <a:ext cx="3047760" cy="42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C:\Users\jam326 Desk Top\AppData\Local\Microsoft\Windows\Temporary Internet Files\Content.IE5\K0LVA38I\MC90043491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3360" y="5410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"/>
          <p:cNvSpPr/>
          <p:nvPr/>
        </p:nvSpPr>
        <p:spPr>
          <a:xfrm>
            <a:off x="152280" y="5335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To help remember all that our ancestors went through we have a Passover Seder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7" name="Picture 5" descr="C:\Users\jam326 Desk Top\AppData\Local\Microsoft\Windows\Temporary Internet Files\Content.IE5\ED6NEGBW\MM900395726[1]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95840" y="4838760"/>
            <a:ext cx="1681200" cy="1143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https://encrypted-tbn3.gstatic.com/images?q=tbn:ANd9GcSYUgJ0jBwJuPxcdO1BhV2DlDBvHUMMUycj1a4OI9_Jn9g23dfs"/>
          <p:cNvPicPr/>
          <p:nvPr/>
        </p:nvPicPr>
        <p:blipFill>
          <a:blip r:embed="rId5"/>
          <a:stretch/>
        </p:blipFill>
        <p:spPr>
          <a:xfrm>
            <a:off x="181080" y="1523880"/>
            <a:ext cx="4960800" cy="4457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69" name="chsm=4d267131601ff4ceda8f098df61974fb&amp;sc=7792686" descr=""/>
          <p:cNvPicPr/>
          <p:nvPr/>
        </p:nvPicPr>
        <p:blipFill>
          <a:blip r:embed="rId6"/>
          <a:stretch/>
        </p:blipFill>
        <p:spPr>
          <a:xfrm>
            <a:off x="5595840" y="1143000"/>
            <a:ext cx="30481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C:\Users\jam326 Desk Top\AppData\Local\Microsoft\Windows\Temporary Internet Files\Content.IE5\K0LVA38I\MC90043491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336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http://www.messianic-torah-truth-seeker.org/Torah/Pesach/seder.jpg"/>
          <p:cNvPicPr/>
          <p:nvPr/>
        </p:nvPicPr>
        <p:blipFill>
          <a:blip r:embed="rId3"/>
          <a:stretch/>
        </p:blipFill>
        <p:spPr>
          <a:xfrm>
            <a:off x="457200" y="1600200"/>
            <a:ext cx="3429000" cy="323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72" name="Rectangle 1"/>
          <p:cNvSpPr/>
          <p:nvPr/>
        </p:nvSpPr>
        <p:spPr>
          <a:xfrm>
            <a:off x="378000" y="457200"/>
            <a:ext cx="89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How Well do you know your Seder Plate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73" name="Picture 3" descr="C:\Users\jam326 Desk Top\AppData\Local\Microsoft\Windows\Temporary Internet Files\Content.IE5\ELTVDSBY\MC900437050[1]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029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C:\Users\jam326 Desk Top\AppData\Local\Microsoft\Windows\Temporary Internet Files\Content.IE5\WZ1N6GU5\MC900437051[1]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14680" y="5029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C:\Users\jam326 Desk Top\AppData\Local\Microsoft\Windows\Temporary Internet Files\Content.IE5\K0LVA38I\MC900437052[1]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81560" y="5029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76" name="chsm=38453320b48bc84e8ec4e64dc2cc4ce1&amp;sc=7792732" descr=""/>
          <p:cNvPicPr/>
          <p:nvPr/>
        </p:nvPicPr>
        <p:blipFill>
          <a:blip r:embed="rId10"/>
          <a:stretch/>
        </p:blipFill>
        <p:spPr>
          <a:xfrm>
            <a:off x="5261040" y="17524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-128520" y="291960"/>
            <a:ext cx="9601200" cy="16099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C:\Users\jam326 Desk Top\AppData\Local\Microsoft\Windows\Temporary Internet Files\Content.IE5\ELTVDSBY\MC900437050[1]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" y="15336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C:\Users\jam326 Desk Top\AppData\Local\Microsoft\Windows\Temporary Internet Files\Content.IE5\WZ1N6GU5\MC900437051[1]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8480" y="15336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C:\Users\jam326 Desk Top\AppData\Local\Microsoft\Windows\Temporary Internet Files\Content.IE5\K0LVA38I\MC900437052[1]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48520" y="13590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C:\Users\jam326 Desk Top\AppData\Local\Microsoft\Windows\Temporary Internet Files\Content.IE5\K0LVA38I\MC900437053[1].png"/>
          <p:cNvPicPr/>
          <p:nvPr/>
        </p:nvPicPr>
        <p:blipFill>
          <a:blip r:embed="rId8"/>
          <a:stretch/>
        </p:blipFill>
        <p:spPr>
          <a:xfrm>
            <a:off x="1981080" y="30733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C:\Users\jam326 Desk Top\AppData\Local\Microsoft\Windows\Temporary Internet Files\Content.IE5\ED6NEGBW\MC900437054[1].png"/>
          <p:cNvPicPr/>
          <p:nvPr/>
        </p:nvPicPr>
        <p:blipFill>
          <a:blip r:embed="rId9"/>
          <a:stretch/>
        </p:blipFill>
        <p:spPr>
          <a:xfrm>
            <a:off x="4879800" y="3063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C:\Users\jam326 Desk Top\AppData\Local\Microsoft\Windows\Temporary Internet Files\Content.IE5\ELTVDSBY\MC900437055[1].png"/>
          <p:cNvPicPr/>
          <p:nvPr/>
        </p:nvPicPr>
        <p:blipFill>
          <a:blip r:embed="rId10"/>
          <a:stretch/>
        </p:blipFill>
        <p:spPr>
          <a:xfrm>
            <a:off x="7429680" y="307332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C:\Users\jam326 Desk Top\AppData\Local\Microsoft\Windows\Temporary Internet Files\Content.IE5\WZ1N6GU5\MC900437056[1].png"/>
          <p:cNvPicPr/>
          <p:nvPr/>
        </p:nvPicPr>
        <p:blipFill>
          <a:blip r:embed="rId11"/>
          <a:stretch/>
        </p:blipFill>
        <p:spPr>
          <a:xfrm>
            <a:off x="266760" y="4851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" descr="C:\Users\jam326 Desk Top\AppData\Local\Microsoft\Windows\Temporary Internet Files\Content.IE5\K0LVA38I\MC900437057[1].png"/>
          <p:cNvPicPr/>
          <p:nvPr/>
        </p:nvPicPr>
        <p:blipFill>
          <a:blip r:embed="rId12"/>
          <a:stretch/>
        </p:blipFill>
        <p:spPr>
          <a:xfrm>
            <a:off x="3429000" y="47545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C:\Users\jam326 Desk Top\AppData\Local\Microsoft\Windows\Temporary Internet Files\Content.IE5\ELTVDSBY\MC900437058[1].png"/>
          <p:cNvPicPr/>
          <p:nvPr/>
        </p:nvPicPr>
        <p:blipFill>
          <a:blip r:embed="rId13"/>
          <a:stretch/>
        </p:blipFill>
        <p:spPr>
          <a:xfrm>
            <a:off x="6248520" y="475452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Users\jam326 Desk Top\AppData\Local\Microsoft\Windows\Temporary Internet Files\Content.IE5\K0LVA38I\MC900434910[1].png"/>
          <p:cNvPicPr/>
          <p:nvPr/>
        </p:nvPicPr>
        <p:blipFill>
          <a:blip r:embed="rId14"/>
          <a:stretch/>
        </p:blipFill>
        <p:spPr>
          <a:xfrm>
            <a:off x="7658280" y="560376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0:53:21Z</dcterms:created>
  <dc:creator>jam326 Desk Top</dc:creator>
  <dc:description/>
  <dc:language>en-US</dc:language>
  <cp:lastModifiedBy>Jodi Mishkin</cp:lastModifiedBy>
  <dcterms:modified xsi:type="dcterms:W3CDTF">2013-03-20T18:46:41Z</dcterms:modified>
  <cp:revision>14</cp:revision>
  <dc:subject/>
  <dc:title>PowerPoint Presentation</dc:title>
</cp:coreProperties>
</file>